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9.png" ContentType="image/png"/>
  <Override PartName="/ppt/media/image3.wmf" ContentType="image/x-wmf"/>
  <Override PartName="/ppt/media/image11.png" ContentType="image/png"/>
  <Override PartName="/ppt/media/image19.jpeg" ContentType="image/jpeg"/>
  <Override PartName="/ppt/media/image21.wmf" ContentType="image/x-wmf"/>
  <Override PartName="/ppt/media/image4.wmf" ContentType="image/x-wmf"/>
  <Override PartName="/ppt/media/image10.png" ContentType="image/png"/>
  <Override PartName="/ppt/media/image20.jpeg" ContentType="image/jpeg"/>
  <Override PartName="/ppt/media/image18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2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379-DCA7-4213-BE8C-640785C1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0CC-5528-4041-B25D-E095259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198-0E47-4CA4-9CF9-09041B39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48B-10A4-424A-86B0-A95D7CA2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E46-F95E-4B1C-94D5-D926F44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3B7-B425-4EE9-AF08-A17A708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1D6-B514-4B18-BEF7-876B60E8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A6B-BAF5-44F7-98CB-D6C3B69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96A-814D-4E59-991C-16516E81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CE7-BA9B-4A59-AA37-31A97AD0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03B-613D-417F-9091-BEEB08D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129-E2AA-4042-B71E-00D8E96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2AD1-0349-4175-8FC2-74DE73D1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Jan_Baptist_van_Helmont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pping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used a solar-powered calculator? No matter where you go, as long as you have a light source, the calculator works. You never have to put batterie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est Gra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037083"/>
          <p:cNvPicPr/>
          <p:nvPr/>
        </p:nvPicPr>
        <p:blipFill>
          <a:blip r:embed="rId1"/>
          <a:stretch/>
        </p:blipFill>
        <p:spPr>
          <a:xfrm>
            <a:off x="3886200" y="342900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j0189251"/>
          <p:cNvPicPr/>
          <p:nvPr/>
        </p:nvPicPr>
        <p:blipFill>
          <a:blip r:embed="rId2"/>
          <a:stretch/>
        </p:blipFill>
        <p:spPr>
          <a:xfrm>
            <a:off x="1219320" y="3581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riestly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3478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28600" y="3585600"/>
            <a:ext cx="8915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ing candle + bell jar →  candle goes out + add a mint plant  →  candle can be re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+ bell jar →  dead mouse + add a mint plant →  mouse l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5002200"/>
            <a:ext cx="8232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y did the candle burn out when placed under bell j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y could the candle be relit after allowing it growth with a mint pl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y does a mouse die when it is placed under a bell j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y was the mouse able to survive when placed in the jar with a mint pl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Jan Ingenhou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Showed that the experiment done by Priestly only occurred if the plant was i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Light is needed to produc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aiandra GD"/>
              </a:rPr>
              <a:t>Put all three scientists toge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aiandra GD"/>
              </a:rPr>
              <a:t>In the presence of light, plants transform carbon dioxide and water into carbohydrates, and they also releas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ngenhousz"/>
          <p:cNvPicPr/>
          <p:nvPr/>
        </p:nvPicPr>
        <p:blipFill>
          <a:blip r:embed="rId1"/>
          <a:stretch/>
        </p:blipFill>
        <p:spPr>
          <a:xfrm>
            <a:off x="457200" y="0"/>
            <a:ext cx="1135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Maiandra GD"/>
              </a:rPr>
              <a:t>Photosynthesis uses the energy of sunlight to convert water and carbon dioxide into high-energy sugars and oxygen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Maiandra GD"/>
              </a:rPr>
              <a:t>These sugars are converted into complex carbohydrates (starches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E:\Chapter_03\Present\Images\03_12.jpg"/>
          <p:cNvPicPr/>
          <p:nvPr/>
        </p:nvPicPr>
        <p:blipFill>
          <a:blip r:embed="rId1"/>
          <a:stretch/>
        </p:blipFill>
        <p:spPr>
          <a:xfrm>
            <a:off x="457200" y="2332080"/>
            <a:ext cx="815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+  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03848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photosynthesis"/>
          <p:cNvPicPr/>
          <p:nvPr/>
        </p:nvPicPr>
        <p:blipFill>
          <a:blip r:embed="rId1"/>
          <a:stretch/>
        </p:blipFill>
        <p:spPr>
          <a:xfrm>
            <a:off x="2971800" y="2209680"/>
            <a:ext cx="3884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ght is a form of energy that travels in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White light is a mixture of light of different wave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When broken down, white light produces the visible spectrum (400nm – 75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ROY G. B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ed, orange, yellow, green, blue, indigo,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ed has a longer wavelength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j0236531"/>
          <p:cNvPicPr/>
          <p:nvPr/>
        </p:nvPicPr>
        <p:blipFill>
          <a:blip r:embed="rId1"/>
          <a:stretch/>
        </p:blipFill>
        <p:spPr>
          <a:xfrm>
            <a:off x="1284120" y="301680"/>
            <a:ext cx="1028880" cy="12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189251"/>
          <p:cNvPicPr/>
          <p:nvPr/>
        </p:nvPicPr>
        <p:blipFill>
          <a:blip r:embed="rId2"/>
          <a:stretch/>
        </p:blipFill>
        <p:spPr>
          <a:xfrm>
            <a:off x="6656400" y="34596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igment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igment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light absorbing pi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Because light is energy – energy is absorbed by the pi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Their electrons get excited to a higher energ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Chlorophyl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main light absorbing pigment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wo types: chlorophyll a and chlorophy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bsorbs light in the blue-violet and red regions; reflects green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hlorophyll"/>
          <p:cNvPicPr/>
          <p:nvPr/>
        </p:nvPicPr>
        <p:blipFill>
          <a:blip r:embed="rId1"/>
          <a:stretch/>
        </p:blipFill>
        <p:spPr>
          <a:xfrm>
            <a:off x="380880" y="380880"/>
            <a:ext cx="7998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4054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225800" y="609480"/>
            <a:ext cx="3345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ption of Ligh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7340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05920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743200" y="51055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27852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58272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267080" y="51055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438640" y="228600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819520" y="281952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791320" y="18288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943600" y="1295280"/>
            <a:ext cx="2895480" cy="450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color spectrum at the bottom relate to the grap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 what region of the spectrum does chlorophyll a absorb light b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 what region of the spectrum does chlorophyll b absorb light b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n what region of the spectrum do neither types of chlorophyll absorb light well 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igment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Carotenoid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– red, orange, and yellow pigments in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bsorb light in the other regions of th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eaves change color because the chlorophyll molecules fade away and the carotenoids are left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150101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181636"/>
          <p:cNvPicPr/>
          <p:nvPr/>
        </p:nvPicPr>
        <p:blipFill>
          <a:blip r:embed="rId2"/>
          <a:stretch/>
        </p:blipFill>
        <p:spPr>
          <a:xfrm>
            <a:off x="7010280" y="304920"/>
            <a:ext cx="1752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 the equation, what part van Helmont, Priestly, &amp; Ingenhousz were responsibl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DP and AT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molecules from least to most, in terms of energy cont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P, Glucose, AMP,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plants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-298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call that plants use light energy from the sun to make food. Into what kind of energy is the light energy converted by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ost plants, no matter what size or shape they are, have some parts that are green. Which parts of a plant are usually gre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does the green color have to do with the plant’s ability to convert light energy into the energy found in the food it m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est Grabber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MCj04298150000[1]"/>
          <p:cNvPicPr/>
          <p:nvPr/>
        </p:nvPicPr>
        <p:blipFill>
          <a:blip r:embed="rId1"/>
          <a:stretch/>
        </p:blipFill>
        <p:spPr>
          <a:xfrm>
            <a:off x="3733920" y="0"/>
            <a:ext cx="14382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174195"/>
          <p:cNvPicPr/>
          <p:nvPr/>
        </p:nvPicPr>
        <p:blipFill>
          <a:blip r:embed="rId2"/>
          <a:stretch/>
        </p:blipFill>
        <p:spPr>
          <a:xfrm>
            <a:off x="914400" y="0"/>
            <a:ext cx="167652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j0309713"/>
          <p:cNvPicPr/>
          <p:nvPr/>
        </p:nvPicPr>
        <p:blipFill>
          <a:blip r:embed="rId3"/>
          <a:stretch/>
        </p:blipFill>
        <p:spPr>
          <a:xfrm>
            <a:off x="6629400" y="228600"/>
            <a:ext cx="1316160" cy="13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iandra GD"/>
              </a:rPr>
              <a:t>Chapter 8.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Photosynthesis: 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lants use energy of sunlight to convert water and carbon dioxide into high-energy carbohydrates – sugars and starches –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Oxygen is considered a waste product of photo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photosynthesis"/>
          <p:cNvPicPr/>
          <p:nvPr/>
        </p:nvPicPr>
        <p:blipFill>
          <a:blip r:embed="rId1"/>
          <a:stretch/>
        </p:blipFill>
        <p:spPr>
          <a:xfrm>
            <a:off x="4952880" y="1447920"/>
            <a:ext cx="3884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39840" y="19828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64" name="Chapter 08B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000160" y="1415880"/>
            <a:ext cx="5210280" cy="407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822480" y="1039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24720" y="45831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70760" y="5195880"/>
            <a:ext cx="127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128360" y="5195880"/>
            <a:ext cx="141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s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90920" y="231840"/>
            <a:ext cx="632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hotosynthesis: Reactan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Jan van Hel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xperi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 find out if plants grew by taking material out of the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Determined mass of dry soil and see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Watered se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fter 5 years – mass of tree changed, while mass of soil remained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oncluded that increase in mass was due to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ccounts for “hydrate” in carbohyd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arbon from carbon dioxide accounts for “carbo” in carbohyd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age:Jan Baptist van Helmo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1468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Helmont’s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willow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Joseph Pries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Experimented with fire in a jar with a sprig of 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Fire needed oxygen to keep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utting a jar over the flame put the fir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f mint was placed in jar, fire would keep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cluded that plants gave off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TaylorIMMccJosephPriestleyM"/>
          <p:cNvPicPr/>
          <p:nvPr/>
        </p:nvPicPr>
        <p:blipFill>
          <a:blip r:embed="rId1"/>
          <a:stretch/>
        </p:blipFill>
        <p:spPr>
          <a:xfrm>
            <a:off x="457200" y="228600"/>
            <a:ext cx="1363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50:10Z</dcterms:created>
  <dc:creator>bpalme</dc:creator>
  <dc:description/>
  <dc:language>en-US</dc:language>
  <cp:lastModifiedBy>Preferred Customer</cp:lastModifiedBy>
  <dcterms:modified xsi:type="dcterms:W3CDTF">2009-12-20T15:23:19Z</dcterms:modified>
  <cp:revision>15</cp:revision>
  <dc:subject/>
  <dc:title>Chapter 8.2</dc:title>
</cp:coreProperties>
</file>